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6AD1-F37E-4704-AB51-511B6947F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2647-9E68-4DB0-A242-8308FBF0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B0EA-C72F-49F0-A64A-F100BCC3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803D-EE3B-4840-AD7D-C4D5E1AD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A919-D528-4995-A527-DCDF0009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82D9-444A-4AB3-878D-74EBD846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3189-8269-4945-87DF-73935DAB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D23F-982D-40A4-9126-F5151E5C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FA10-046F-4E89-982E-F554C1EA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2D47-DB3F-4C0F-BF6E-3F2DABB3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6845-8D31-4317-B575-0BD432CA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60EA-CFBF-497C-91BC-8A892F23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9C10-C1C8-4E0D-8705-6863442F1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images.google.co.uk/imgres?imgurl=http://www.tdctrade.com/main/industries/image/28elecap.jpg&amp;imgrefurl=http://www.tdctrade.com/main/industries/t2_2_7.htm&amp;h=300&amp;w=205&amp;sz=26&amp;hl=en&amp;start=6&amp;tbnid=Wf5GUz2PTOhtyM:&amp;tbnh=116&amp;tbnw=79&amp;prev=/images%3Fq%3Delectrical%2Bappliances%26svnum%3D10%26hl%3Den%26lr%3D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.uk/imgres?imgurl=http://members.iinet.net.au/~hellgate/eddy/images/appl.jpg&amp;imgrefurl=http://members.iinet.net.au/~hellgate/eddy/qappl.html&amp;h=288&amp;w=358&amp;sz=57&amp;hl=en&amp;start=8&amp;tbnid=jIPUxfAFYvnJuM:&amp;tbnh=97&amp;tbnw=121&amp;prev=/images%3Fq%3Delectrical%2Bappliances%26svnum%3D10%26hl%3Den%26lr%3D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al app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trans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ell the energy is turned into what we 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quickly the energy is turned into what we 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al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is the rate of energy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al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is the rate of energy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joules of energy get transferred every 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make this into an equ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al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is the rate of energy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joules of energy get transferred every 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ergy transfer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t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measured in Wat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urn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these into order – least to most powe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rge power 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ght bu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aturn V ro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o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lectric coo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 demand for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ailway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urn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these into order – least to most powe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rge power s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ght bul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aturn V rock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or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lectric coo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 demand for po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ailway eng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urn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these into order – least to most powe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rge power s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ght bul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aturn V rock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or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lectric coo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 demand for po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ailway eng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urn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these into order – least to most powe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rge power s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ght bul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aturn V rock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or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lectric coo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0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 demand for po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ailway eng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urn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these into order – least to most powe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rge power s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ght bul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aturn V rock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or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lectric coo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0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 demand for po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ailway eng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000 0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urn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these into order – least to most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rge power s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ght bul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aturn V rock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000 000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or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lectric cook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000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demand for pow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ailway eng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000 000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words can you make from these 11 le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     i      c     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     t      r      i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    e    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urn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t these into order – least to most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large power st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000 000 000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light bul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0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Saturn V rock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0 000 000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tor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u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 electric cook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000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 demand for pow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railway engi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000 000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urn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t these into order – least to most powe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arge power st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 000 000 0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ight bul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aturn V rock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 000 0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orc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u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electric cook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 0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ld demand for pow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 000 000 000 0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railway engi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000 0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urn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t these into order – least to most powe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arge power st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 000 000 0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ight bul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aturn V rock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 000 0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orc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u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 000 000 000 000 000 000 000 0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electric cook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 0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ld demand for pow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 000 000 000 0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railway engi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000 0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we need some way to cope with the large numb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t these into order – least to most powe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arge power st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 000 000 0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ight bul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aturn V rock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 000 0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orc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u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 000 000 000 000 000 000 000 0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electric cook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 0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ld demand for pow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 000 000 000 0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railway engi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000 0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wer = energy transferred/time tak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otor transfers 10 000J of energy in 25s.  What is its pow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power of a lift motor that transfers 50 000J of energy from the electricity supply in 10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put power of a lift motor is 5000W.  In a test, it transforms 12 000J of electrical energy to gravitational energy in 20 seco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electrical energy is supplied to the mo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its efficiency in the t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chine has a power rating of 100 kW.  If the machine runs for 2 minutes, how much energy does it transf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58920" y="1989000"/>
            <a:ext cx="4392720" cy="388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1916280"/>
            <a:ext cx="4535640" cy="40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3213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88000" y="32846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earn more about what happens when electricity gets transferred from one form of energy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us all to be able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the three main things that are caused when electricity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ly explain the difference between efficiency and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3166920" cy="2217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508720" y="3068640"/>
            <a:ext cx="3333600" cy="3448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03280" y="3213000"/>
            <a:ext cx="1684440" cy="2473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67280" y="404640"/>
            <a:ext cx="2737080" cy="2194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3348000" y="1413000"/>
            <a:ext cx="2924280" cy="2609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24360" y="33336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hese things turn energy from one form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19640" y="443700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and group them together by what they turn the energy i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id the electricity get turned in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id the electricity get turned in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netic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group any of these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trans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ell the energy is turned into what we 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quickly the energy is turned into what we 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trans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ell the energy is turned into what we 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quickly the energy is turned into what we 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13:55:35Z</dcterms:created>
  <dc:creator>sthobbsc</dc:creator>
  <dc:description/>
  <dc:language>en-US</dc:language>
  <cp:lastModifiedBy>sthobbsc</cp:lastModifiedBy>
  <dcterms:modified xsi:type="dcterms:W3CDTF">2006-10-11T10:44:31Z</dcterms:modified>
  <cp:revision>3</cp:revision>
  <dc:subject/>
  <dc:title>Electrical appliances</dc:title>
</cp:coreProperties>
</file>